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29807"/>
        <c:axId val="85296005"/>
      </c:barChart>
      <c:catAx>
        <c:axId val="54029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6005"/>
        <c:crosses val="autoZero"/>
        <c:auto val="1"/>
        <c:lblAlgn val="ctr"/>
        <c:lblOffset val="100"/>
        <c:noMultiLvlLbl val="0"/>
      </c:catAx>
      <c:valAx>
        <c:axId val="85296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9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A19-AA6B-4449-995D-A429245B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C5A-8FC6-47B7-8A7C-24E73F42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F48-FBAC-4288-BFDE-14AC072E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94E-A309-4744-9DD9-5624682F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A6F-37A0-4DAF-9C66-61457C11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81D-D20B-422D-8C6E-5A888601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ED0-FCA7-42D1-ACC4-F496AFB5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ABA-27B3-433D-B446-D25816E3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EF0-B4B9-4BCF-B159-AD5540C9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3E2-8E44-49CB-BA92-026DF333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7A5-2E66-46C1-AB9C-4588C9A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573-5CAB-4A5C-A315-B384E42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944D7-60D1-412F-A2EC-6834623D27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