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18792"/>
        <c:axId val="22310760"/>
      </c:barChart>
      <c:catAx>
        <c:axId val="31718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10760"/>
        <c:crosses val="autoZero"/>
        <c:auto val="1"/>
        <c:lblAlgn val="ctr"/>
        <c:lblOffset val="100"/>
        <c:noMultiLvlLbl val="0"/>
      </c:catAx>
      <c:valAx>
        <c:axId val="22310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18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E89-B5EC-4C76-852C-8F947E14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FB3-B8E2-40E6-A464-26ADC9E1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E1C-AE9F-499E-8CD1-CC870981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2D6-EAF1-4686-9D6A-50165849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9D2-2653-4E46-BBD1-0A5C83E7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CB7-4B78-45EA-B692-3369868D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A6C-E719-4B5B-B5FB-1B3498DC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A6B-B2F2-4AFE-8EDE-ACD7B39F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278-A068-43C1-929C-5D7CEAC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806-966F-4F32-B30E-C5F33B8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91F-DF2A-4197-B139-E95D1C3C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FC1-AEB2-41D1-9598-1056D9D1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337F5-7314-4F7D-905A-1CA9F744C5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