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9657077"/>
        <c:axId val="4688809"/>
      </c:barChart>
      <c:catAx>
        <c:axId val="4965707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88809"/>
        <c:crosses val="autoZero"/>
        <c:auto val="1"/>
        <c:lblAlgn val="ctr"/>
        <c:lblOffset val="100"/>
        <c:noMultiLvlLbl val="0"/>
      </c:catAx>
      <c:valAx>
        <c:axId val="468880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65707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3EC7-3E3F-42AA-9A82-F67ED6B04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0291-65B1-42C0-A7C2-310975352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1261-2601-477A-B24C-9EA62C64B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F544-73C0-4D6D-A323-B072A09C8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F231-DD33-44E3-9AAD-895682294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7C64-1F53-4EA3-8D34-216E142C8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9478-3CBC-4BE9-80EE-7CAE7BBF2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4793-EFEA-4110-BCE3-550FD828C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4867-EF58-43D6-93E3-78D544ED5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1240-9C1F-49CF-8892-7634960F1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2FF2-C89F-4082-BE3D-AAB4618A7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F329-B7B0-492B-9A7A-F6C8EC255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3B4A19-4DA2-469F-912C-C5AC8135B09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