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312169"/>
        <c:axId val="56464626"/>
      </c:barChart>
      <c:catAx>
        <c:axId val="94312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64626"/>
        <c:crosses val="autoZero"/>
        <c:auto val="1"/>
        <c:lblAlgn val="ctr"/>
        <c:lblOffset val="100"/>
        <c:noMultiLvlLbl val="0"/>
      </c:catAx>
      <c:valAx>
        <c:axId val="564646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312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673-CE54-4D3D-B7AE-2D26F700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154-6526-4F67-9919-F0FF39A9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9D7-9D7E-4F4E-94F4-F261B52E9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B17-30EC-4C26-AD8F-82F76D32A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B6E-8535-42F2-9379-75152860D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5F3-A7CE-4412-8A26-4F574945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96F-207D-4D62-8DFD-C8BA5638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332-7555-400A-97C2-C78B6D80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518-7A96-4264-92C7-171C7B05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EF6A-E2C0-43F9-8894-1E8A0B4C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48B-1B23-4743-B9C3-80E146BD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6AC2-3BDF-4DF0-9EBE-024A184F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E6537-807C-4143-9252-2D035D44E0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