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89110"/>
        <c:axId val="76885944"/>
      </c:barChart>
      <c:catAx>
        <c:axId val="20289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85944"/>
        <c:crosses val="autoZero"/>
        <c:auto val="1"/>
        <c:lblAlgn val="ctr"/>
        <c:lblOffset val="100"/>
        <c:noMultiLvlLbl val="0"/>
      </c:catAx>
      <c:valAx>
        <c:axId val="76885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9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114-FA68-4442-995E-6144585D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B91-9878-4AA5-8ED1-B9CCC54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D86-3740-4F03-AAE7-13A692FC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DCD-0EAF-4E0C-86A8-BFAFED12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F10-73F4-4813-932D-7C79922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FBB9-F4CF-4082-8AD1-B29B55E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105-B1D3-4A34-802F-193C7F0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D30-267A-4C58-8F47-A1D7953F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AC6-5F2C-4176-890B-098619E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FCB-A93F-4084-9F08-5973DE1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5A6-3B68-49F3-868D-06C3308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94-4A2A-41C4-AC49-FC1E22E1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0808-A2B4-4B07-AEB9-E28A971A74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