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355742"/>
        <c:axId val="76402"/>
      </c:barChart>
      <c:catAx>
        <c:axId val="833557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402"/>
        <c:crosses val="autoZero"/>
        <c:auto val="1"/>
        <c:lblAlgn val="ctr"/>
        <c:lblOffset val="100"/>
        <c:noMultiLvlLbl val="0"/>
      </c:catAx>
      <c:valAx>
        <c:axId val="764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3557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DB7A-F5A1-4C62-8D08-BAACFE404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BD1B-BA11-4C7B-9B3A-C74667C7D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857F-936E-459F-A41F-48BCDEB52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BBC7-FCB8-41CF-947E-3286616A1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39B6-3157-4503-B426-E5186E364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CED3-CD9C-4E4C-B7AF-622C06ADA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C13C-274A-4E33-8ED0-23A9E6E8D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4CF1-21C5-45FC-A31F-0A96E2F51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F25A-4244-4C10-B8C4-186CC5731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5B2B-E9C9-4253-8597-97FD8CC2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D868-7D29-4495-816B-62C657B8A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EAB6-393D-4D5D-9344-7248B1A06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CBC9CE-EC01-4A12-8293-AFEF5AA4C5B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