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1855749"/>
        <c:axId val="32030962"/>
      </c:barChart>
      <c:catAx>
        <c:axId val="4185574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2030962"/>
        <c:crosses val="autoZero"/>
        <c:auto val="1"/>
        <c:lblAlgn val="ctr"/>
        <c:lblOffset val="100"/>
        <c:noMultiLvlLbl val="0"/>
      </c:catAx>
      <c:valAx>
        <c:axId val="3203096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85574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2E827-10AE-4680-B08B-E8C67F157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172AF-B56C-49AF-80B7-186483B93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DFFF2-C09D-4C10-982C-CA5A863FD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90F2E-3CEC-48E8-9E8B-2498D7D51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D21E2-2D47-4742-A3C9-E11E61872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0F08F-18E8-4B30-8BB3-3C9D32A45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9C971-BA2F-4D61-A7A7-A5E17BF00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EB8C9-E9AA-4FB2-BBB5-DF97B6B0C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0D8BD-18D7-4CC2-A476-1C47268D8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50C79-ED4B-493C-9620-0FF6B0BE2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FCEF2-EA0C-4A43-A48B-6C0257E79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269DB-8AB7-42F7-9B44-F908BA0EB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0EF6EA-238F-45F2-9444-0F355E1FF1A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