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02671"/>
        <c:axId val="38134387"/>
      </c:barChart>
      <c:catAx>
        <c:axId val="86902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34387"/>
        <c:crosses val="autoZero"/>
        <c:auto val="1"/>
        <c:lblAlgn val="ctr"/>
        <c:lblOffset val="100"/>
        <c:noMultiLvlLbl val="0"/>
      </c:catAx>
      <c:valAx>
        <c:axId val="38134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02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01C-0C80-47B5-BC9C-770E9642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E39-4B25-4394-B6D3-BC14B963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F8B-E3AD-4229-AC0F-6C64603E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55A-4CAD-4B0D-BD62-4B98B671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20CF-6404-4B2B-B7ED-F20A6666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DDD-6C0F-4009-8678-7CBDCD9B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24AD-4D41-4CD0-8D7A-38FC405F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918-62D6-48B1-ADC9-10210BA0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AB8-6813-4E08-801B-C4C8C12E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035-C18A-4FAE-8D11-411C24D0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C4B-890C-48D9-9336-C0BCB831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89A8-3705-4F66-9CA4-A31CA7B2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5694B-ED42-4C67-88B0-027041101B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