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170676"/>
        <c:axId val="5748412"/>
      </c:barChart>
      <c:catAx>
        <c:axId val="93170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8412"/>
        <c:crosses val="autoZero"/>
        <c:auto val="1"/>
        <c:lblAlgn val="ctr"/>
        <c:lblOffset val="100"/>
        <c:noMultiLvlLbl val="0"/>
      </c:catAx>
      <c:valAx>
        <c:axId val="57484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170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33C8-841B-4F7C-8626-F0EE682FD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BD9D-027C-4EB9-B42C-BD8F41F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5456-B3E3-4FF7-BDA8-8D1DF10A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572-C210-49C6-B195-C9331B7A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A74-9A52-48DA-9D1F-F6E92D95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3317-6EC6-4466-961F-15245569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6E3-2369-4830-98A8-8171B84E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C60-6AF4-4F87-B38B-10B6BC54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A80-98B5-4FDD-A297-41DD767D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019E-EEE6-4322-96A4-B7C21144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7FA-2923-4851-B747-2238DCEA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E63-806B-4DE8-B1E9-51AC475C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A05E2-4C36-4F56-8025-EDD1C1EF74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