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3884998"/>
        <c:axId val="67398439"/>
      </c:barChart>
      <c:catAx>
        <c:axId val="93884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398439"/>
        <c:crosses val="autoZero"/>
        <c:auto val="1"/>
        <c:lblAlgn val="ctr"/>
        <c:lblOffset val="100"/>
        <c:noMultiLvlLbl val="0"/>
      </c:catAx>
      <c:valAx>
        <c:axId val="6739843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884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D8EE-E2BC-44B2-BA09-0A5E33049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E330-58EF-4F9F-ABCF-BF7871C73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D5423-4EF5-4236-B8DF-D77485C8B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155C-CE00-443B-A574-DD0EDE53C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F9C8C-6534-4F90-80E0-932EA32B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E33E-872F-4BAC-87FB-32FB03FE4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ACF8-792B-45BF-A6BD-1AD196CD4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3C93-EF4A-4731-BC78-7D0DD94F9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C59B-249C-4DF8-AF19-4A0EBF4D4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24F-8FB7-4F66-8479-D6B6B1F9E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048-70C3-409E-867D-E4120C601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AB90-238C-4036-8961-5F3DF8E4A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513FF6-4321-4D08-A6F0-E7B450FE892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