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56317"/>
        <c:axId val="78923415"/>
      </c:barChart>
      <c:catAx>
        <c:axId val="83656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23415"/>
        <c:crosses val="autoZero"/>
        <c:auto val="1"/>
        <c:lblAlgn val="ctr"/>
        <c:lblOffset val="100"/>
        <c:noMultiLvlLbl val="0"/>
      </c:catAx>
      <c:valAx>
        <c:axId val="78923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6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DDC-2865-4A90-833B-1EE6D335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D80-3C76-4B3E-852E-8F719B7D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13F-E4F1-452B-A646-2B58C0B9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F51-1F58-4F83-B3B9-8DA6856D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786-A7AD-4238-8F33-C8A99FD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583-08AC-4BC7-A835-9D0C20DA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0A5-E373-4559-A7F0-EEE27296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6A4-3E4F-4391-A214-FB1C386D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639-1F94-4766-9707-8E41F981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8EE-A198-41DE-A400-AD1AB7C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BEC-E863-416F-A177-9F8B4C61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0C9-BB91-4350-80FA-C3117E4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E2C9E-C572-4169-961D-B9BE857402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