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965635"/>
        <c:axId val="86501907"/>
      </c:barChart>
      <c:catAx>
        <c:axId val="15965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01907"/>
        <c:crosses val="autoZero"/>
        <c:auto val="1"/>
        <c:lblAlgn val="ctr"/>
        <c:lblOffset val="100"/>
        <c:noMultiLvlLbl val="0"/>
      </c:catAx>
      <c:valAx>
        <c:axId val="865019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65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75D4-F6E5-4107-9EAB-57BE1AC24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79B2-644F-4CC7-BEE5-6174445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B95-65D6-4751-AC51-B898926B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14E3-A4BE-4B3E-9BAA-B4D4FD50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405-9FD9-41D0-9B84-854C5FF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969-FC4C-4523-BE53-F6BDA195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B02B-801E-4A66-AAE1-9CE0DD81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75D-339C-43F5-99DF-248F693D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2C4-544C-4A7E-9601-83F29C6D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DA00-D6C5-4A3A-866D-4DDB4738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D161-84A3-4D92-8F3C-42D35EAA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AEC5-A283-4209-8669-04145201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3FB79-3EB0-4E1E-B8A2-209FD9F03D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