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37718"/>
        <c:axId val="2954542"/>
      </c:barChart>
      <c:catAx>
        <c:axId val="52837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542"/>
        <c:crosses val="autoZero"/>
        <c:auto val="1"/>
        <c:lblAlgn val="ctr"/>
        <c:lblOffset val="100"/>
        <c:noMultiLvlLbl val="0"/>
      </c:catAx>
      <c:valAx>
        <c:axId val="2954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37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B40-F835-492A-AA5B-BB49E041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29F-8BA1-464F-A05C-9E606276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CE7-9973-40B7-B129-6AD4394D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C92-2898-46FB-A0ED-8CBED34F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476-7361-4611-9E3A-BF1C2CF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F76-3872-47FE-88B4-0D95EF5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974-2BED-4A9D-83AD-EC91DD6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6AE-D49E-4047-8099-2EEB2E2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F5E-7D64-4573-B969-E0A6350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BCD-6693-4386-9FDC-C1CE832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461-8C3A-4A65-9C2F-7BC5886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6D8-20FA-4A48-B34D-27F6820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F7AA-B4EC-4AF7-A838-2A4AC930EF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