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309459"/>
        <c:axId val="87903455"/>
      </c:barChart>
      <c:catAx>
        <c:axId val="473094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7903455"/>
        <c:crosses val="autoZero"/>
        <c:auto val="1"/>
        <c:lblAlgn val="ctr"/>
        <c:lblOffset val="100"/>
        <c:noMultiLvlLbl val="0"/>
      </c:catAx>
      <c:valAx>
        <c:axId val="87903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3094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AE786-26C0-4E75-A002-727CB8FDBE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F92D2-08A9-4FE7-AC92-C7110F8C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377B-D6BB-4A3A-A16E-307CD4013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9A5E-8F7C-4E16-920C-7CCC6E86E9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B8C5B-CCAE-4B5C-8AAE-FEAA28ECF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04D2D-7627-449B-B61B-99EBA9E053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7C70-7CE7-4184-8E77-C5D23A07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D518EC-6B19-48B6-BF5E-956840523F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5467C-7EE6-497B-80DD-D73F1C7D1D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A941-034C-4884-AA3C-C71D926E7A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23ABC-5A26-4677-AFE5-3A8EE713F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CCF3-E8DF-4A4B-8DBD-8D1E2B304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9FB6BA8-B485-40E6-BFEE-DB17239211B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