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81529"/>
        <c:axId val="66114882"/>
      </c:barChart>
      <c:catAx>
        <c:axId val="138815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114882"/>
        <c:crosses val="autoZero"/>
        <c:auto val="1"/>
        <c:lblAlgn val="ctr"/>
        <c:lblOffset val="100"/>
        <c:noMultiLvlLbl val="0"/>
      </c:catAx>
      <c:valAx>
        <c:axId val="661148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815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3290-84FE-4748-AA00-0105D385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CF08-61E1-4527-8B6E-07447A9D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3567-8E1C-4348-AA31-8136EC6F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3ACA-D5F1-4289-8AD7-D1938ECA7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705-ABF1-45AE-B52D-EDB7BE94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2BF-CA57-4C58-9F86-AA767284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7E4-C677-4E44-8706-37E6E9DB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2C0B-22B1-4FA5-A680-B3FEA198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AE8-126C-4770-A5A3-3821B891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16D-E215-4137-89D6-689AFE0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0C56-4DCB-463E-B29C-20D3935C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CBF2-DB1C-4C4E-88FE-338A78DF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B3D7DC-83BE-48B6-83FD-BF1B6314D5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