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31907"/>
        <c:axId val="95177891"/>
      </c:barChart>
      <c:catAx>
        <c:axId val="298319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77891"/>
        <c:crosses val="autoZero"/>
        <c:auto val="1"/>
        <c:lblAlgn val="ctr"/>
        <c:lblOffset val="100"/>
        <c:noMultiLvlLbl val="0"/>
      </c:catAx>
      <c:valAx>
        <c:axId val="95177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319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C21-D869-4C70-B792-D3B99699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714-740A-4680-9E33-50694D53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549-A091-4BD5-A547-48B383B5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1E23-3234-4AAB-AC55-1BC3AF83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1F8-98D1-4FD8-90C1-6B73CA2B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417-D327-4FF4-80B3-654B89A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85B-EBBC-4087-B9CA-041D3B5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E09-246A-45ED-BDAD-D03BD17C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EAFA-C6BB-44BA-943A-8D88491C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3AD2-96E9-4CB5-BDBB-6FBE1AC0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670-EB27-43A2-81BF-E4FA8DA2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C3E-207E-4A04-9AD2-1B650031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00A06-E13C-413D-B57B-3E42411396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