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25570"/>
        <c:axId val="13694962"/>
      </c:barChart>
      <c:catAx>
        <c:axId val="62225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94962"/>
        <c:crosses val="autoZero"/>
        <c:auto val="1"/>
        <c:lblAlgn val="ctr"/>
        <c:lblOffset val="100"/>
        <c:noMultiLvlLbl val="0"/>
      </c:catAx>
      <c:valAx>
        <c:axId val="13694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25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1B3-03EE-49C0-9807-C254306A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B01-5B19-43AD-AF22-FE5FFB23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F2B-B3DC-4C5A-A23F-214A3E28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05C-D9AE-423E-8C35-2D5AA63C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8EF-83AB-4578-965E-907E7367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79D-BEBB-4E1C-BC73-66059A24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DBD-1CF0-4B9B-AC3C-4584820C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CC7-7DD6-406F-A829-79AD18B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DAC-A484-461E-8DD5-42DA7D5B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9F4-462A-484D-974A-52563F2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650-6649-40ED-B628-B0EC2521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763-FC83-4E4A-A011-06F5B28A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80EBA-1C9E-45C7-8073-F231D78F0F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