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70745"/>
        <c:axId val="71994219"/>
      </c:barChart>
      <c:catAx>
        <c:axId val="51170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94219"/>
        <c:crosses val="autoZero"/>
        <c:auto val="1"/>
        <c:lblAlgn val="ctr"/>
        <c:lblOffset val="100"/>
        <c:noMultiLvlLbl val="0"/>
      </c:catAx>
      <c:valAx>
        <c:axId val="71994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70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F67-8085-458C-A7D5-75437128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0AC-5268-4D89-A61C-46454549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09E-E5D4-4C82-96E3-4B787602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E0A-8EE6-478A-A84A-24406095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81E-56F6-4983-B91B-B69878A0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768-F580-4D21-8119-DED903A4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4FD-B9F5-497B-BC1F-11985632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10B-6CAF-4C2A-A713-FD0C0954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5A4-F5A9-4463-A597-E80A473E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073-068E-48CA-912E-01944EF0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825-C66D-406C-BD5B-0E4B194B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971-6F65-4C98-811B-8C21F9C4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9D4FD-BF8A-4A11-9C5F-C393EC31A4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