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68402"/>
        <c:axId val="53416190"/>
      </c:barChart>
      <c:catAx>
        <c:axId val="25468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6190"/>
        <c:crosses val="autoZero"/>
        <c:auto val="1"/>
        <c:lblAlgn val="ctr"/>
        <c:lblOffset val="100"/>
        <c:noMultiLvlLbl val="0"/>
      </c:catAx>
      <c:valAx>
        <c:axId val="53416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68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C15-BC11-4AE9-8318-1F8212CE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651-655A-41C5-BCDF-D36E5B46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DFC-7B13-452F-9FA3-CD2DD499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F2A-BE01-44D6-BC5B-0AD9BE03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3B5-C8F1-4E1C-83EB-6240F532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34B-0F9C-478A-AFA3-C24DA4D2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09C-6C8D-4AFD-BF95-0E4D73D1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75F-E6B9-487E-A5DC-651770F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793-693A-406B-999A-5BCF6B5B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7FC-3956-4BA4-A6F9-67A0EE5C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165-217E-4062-B7C3-B24D955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1F0-E078-4AEB-B82A-154E1A33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FC354-C3D9-4CC5-9DF3-817835ACF8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