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630032"/>
        <c:axId val="29694280"/>
      </c:barChart>
      <c:catAx>
        <c:axId val="866300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94280"/>
        <c:crosses val="autoZero"/>
        <c:auto val="1"/>
        <c:lblAlgn val="ctr"/>
        <c:lblOffset val="100"/>
        <c:noMultiLvlLbl val="0"/>
      </c:catAx>
      <c:valAx>
        <c:axId val="296942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300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BFAE-C8C5-4116-9F4E-C895BBC45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830C-4CE0-4FE6-8B6E-7831AFA6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6055-18E4-4EA1-BF2F-5A02111D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58E6-3C07-439A-B2DD-B7CDB171F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B192-E022-44A4-A1C8-D5FA2A53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4A28-C385-4C44-85F3-6E09FBF3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5C94-F2E2-4A0C-976A-5BAEAD56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F5E4-F5DD-4169-860E-52B7C4EA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180C-4D7B-4457-BF1F-0331DE6C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73A7-F596-4916-B6E0-AFAFA42A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32E1-99B9-44BD-B0A3-1DC35413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3B45-B14A-4558-95DE-642C49E8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19CC7-F201-4C45-8B38-E23FDA48DB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