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218559"/>
        <c:axId val="38183598"/>
      </c:barChart>
      <c:catAx>
        <c:axId val="472185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183598"/>
        <c:crosses val="autoZero"/>
        <c:auto val="1"/>
        <c:lblAlgn val="ctr"/>
        <c:lblOffset val="100"/>
        <c:noMultiLvlLbl val="0"/>
      </c:catAx>
      <c:valAx>
        <c:axId val="381835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185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0F20-23FC-4D22-A2B9-456D345E6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9DAD-22C9-46A3-96F8-28F66C41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5BA4-61E5-4476-8D43-65949FD14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A9E2-7504-401D-9A98-C5466E238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8408-A05D-4097-A451-13B9E6F7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8EC5-E50C-42DF-A312-14BCAAC0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017C-FA48-4583-9BC4-1045CA84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1387-61F1-4706-B461-CE347F34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470B-0FC5-4AA2-B414-FAD59549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7044-0FB1-4A7B-B851-6C1B86E7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3F34-58B0-4C94-B0CE-FBA44078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D8B9-EEAF-4753-B39F-38286E90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785E9-F487-4E83-983E-63CF58BA17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