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55202"/>
        <c:axId val="44038965"/>
      </c:barChart>
      <c:catAx>
        <c:axId val="27255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8965"/>
        <c:crosses val="autoZero"/>
        <c:auto val="1"/>
        <c:lblAlgn val="ctr"/>
        <c:lblOffset val="100"/>
        <c:noMultiLvlLbl val="0"/>
      </c:catAx>
      <c:valAx>
        <c:axId val="440389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55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A552-983F-42F8-A0F1-CFBA0CFE2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5C6-B3C2-4EF8-94D3-FD5545D5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AF3-28A0-4450-804C-AC353C0E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5FE-CC6A-421B-9BC4-0E63E53D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4283-E89A-4411-B186-1FF4E63E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275-B8A2-40F2-B830-3A4E8EEA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8B6-AAB6-4215-A4DC-B3AA93F2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BB5-A289-43C1-A973-FED0916D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5FCF-A2D4-4883-89D7-775848B7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AD9-349B-40B7-96AC-2230EDC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8CB-BEC0-4ED6-BCA8-8B13E4F3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AB3-0AD3-412C-9FE2-B32EB76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D6C9A-B8EE-4495-A8FC-071531E58B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