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64185"/>
        <c:axId val="89315238"/>
      </c:barChart>
      <c:catAx>
        <c:axId val="53264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15238"/>
        <c:crosses val="autoZero"/>
        <c:auto val="1"/>
        <c:lblAlgn val="ctr"/>
        <c:lblOffset val="100"/>
        <c:noMultiLvlLbl val="0"/>
      </c:catAx>
      <c:valAx>
        <c:axId val="89315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64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48D-DEC8-4691-AF0C-2A2654CC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37B-A8D1-471D-96E4-EE3801EC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2FC-FBC7-4D73-9063-273350A9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331-A13F-4D33-9132-BEDB4714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4AB-5058-4842-98CE-A6E9A98E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B48-0A10-4E4D-9BCA-5D6F6AEF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F7D-BE5D-4F75-B822-A11FC9A8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585-7D6C-4B42-BE0C-D6393F62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54B-889A-4C17-A4A1-4A5B654B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38E-2A7D-436B-8DEC-5314895A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3D3-6318-4034-AEF6-D73FE13A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FE0-37BF-4943-BC2C-7BA62311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AD67C-E794-432A-BB9D-02DD5A42E0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