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51906"/>
        <c:axId val="73714420"/>
      </c:barChart>
      <c:catAx>
        <c:axId val="74051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14420"/>
        <c:crosses val="autoZero"/>
        <c:auto val="1"/>
        <c:lblAlgn val="ctr"/>
        <c:lblOffset val="100"/>
        <c:noMultiLvlLbl val="0"/>
      </c:catAx>
      <c:valAx>
        <c:axId val="73714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51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FD1-D792-4B16-929A-156CB05A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54E-6710-4A61-B4A8-718736BC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1E6-DBC6-4177-A418-1E8B75A2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941-C3BA-4C83-A20F-2440B60F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B1C-B7EA-4C1B-9C94-EEEBEC74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BC2-46E3-4EA5-BE84-E541DF87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697-9163-4CE5-BFC4-0D753FE3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69E-B92F-44B5-ACB8-2413029B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44E-8932-4512-A1BD-2FB62EB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D75-1130-4CBB-A868-A5EE281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D94-A912-45DD-B304-7D0B8CC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C28-8D7A-4075-8566-D8A4E714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1DF19-C313-4EE4-8940-12133B0C34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