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89468"/>
        <c:axId val="68996675"/>
      </c:barChart>
      <c:catAx>
        <c:axId val="93489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96675"/>
        <c:crosses val="autoZero"/>
        <c:auto val="1"/>
        <c:lblAlgn val="ctr"/>
        <c:lblOffset val="100"/>
        <c:noMultiLvlLbl val="0"/>
      </c:catAx>
      <c:valAx>
        <c:axId val="68996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89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398-3CC5-406D-94B3-ACC4F454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5B30-7063-4E90-8D06-B0AF4356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416-AD14-40FB-B168-70BF54A2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47B7-9854-4DDF-944B-431BC17E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C4E-DE43-413B-A21B-9D406378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C46E-8370-4ABC-A1DE-EA6AED24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361-3FDE-4257-8C67-07959EAE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EB1-7AAE-4CB7-85C2-BFC35BC2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D870-6E06-4655-A5D3-AF8DB48C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270C-382E-435F-A470-93BE309E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DCD1-8037-4D74-9DC0-064FA425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02A-4CEA-4BC3-BCBC-3FB10E0B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04997-CDA3-4B65-9CFF-F296B135DA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