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35510"/>
        <c:axId val="54557477"/>
      </c:barChart>
      <c:catAx>
        <c:axId val="12035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57477"/>
        <c:crosses val="autoZero"/>
        <c:auto val="1"/>
        <c:lblAlgn val="ctr"/>
        <c:lblOffset val="100"/>
        <c:noMultiLvlLbl val="0"/>
      </c:catAx>
      <c:valAx>
        <c:axId val="54557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5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1A1-2B37-45FF-ABC2-86EAA0B8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66B-20E7-4499-BEED-3A9B70194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674-961C-4ECD-A3A0-921298DF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D6C1-1E66-4635-AFC2-3F5E3EB66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4C1-479C-4728-84F6-A693AA37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B1E-386E-46E6-BABE-04DFE977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C65-E7B6-48A6-BAE4-EE417BE9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612-995C-4803-8898-D528A62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3060-017B-403A-8664-9C035022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BF3-08F3-4D0D-A6EE-FE7F3CC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9C8-EB34-4B8E-8D95-33E2BB44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85E-585A-40FE-8E19-AA144871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1866B-0182-427E-AF0C-8A89C0E7D6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