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55844"/>
        <c:axId val="84345766"/>
      </c:barChart>
      <c:catAx>
        <c:axId val="81155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45766"/>
        <c:crosses val="autoZero"/>
        <c:auto val="1"/>
        <c:lblAlgn val="ctr"/>
        <c:lblOffset val="100"/>
        <c:noMultiLvlLbl val="0"/>
      </c:catAx>
      <c:valAx>
        <c:axId val="84345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55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C8E-DFE7-420B-BC97-A6835166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236-2CD5-4BB9-8536-EE486CF0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59B-2C80-4E2C-8200-9E4420F9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53F-709D-4567-B5CE-73E5C6B9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54A-9B7B-45F6-B293-62B13D0B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435-3476-4372-BA26-36967B60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A83-5C48-457C-A406-6A46DB61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CC2-939F-4A30-8214-73706AE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8FF-8C73-490C-8C4A-1EDB02FC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1AE-D054-436E-B6AE-657474C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D53-1F04-4929-9BF0-77BCA5D7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594-0F47-4D86-8CD2-1642400F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851BF-F91A-4421-977D-A6F2769AB3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