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06346"/>
        <c:axId val="42552804"/>
      </c:barChart>
      <c:catAx>
        <c:axId val="49006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52804"/>
        <c:crosses val="autoZero"/>
        <c:auto val="1"/>
        <c:lblAlgn val="ctr"/>
        <c:lblOffset val="100"/>
        <c:noMultiLvlLbl val="0"/>
      </c:catAx>
      <c:valAx>
        <c:axId val="42552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6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044-CB8F-4577-B5FD-A6E673D6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03C-FB09-4B6E-83E9-F8F017A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D71-DCD0-4F24-AA48-4673E80D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989-1189-42DA-9886-7FDFED09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282-36C9-4A55-B597-11C7CCA9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E1C-7F4C-47FC-B8A2-428DB1A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AAF-08D6-431F-A249-CFCFDC8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EB7-1FA7-477F-A76E-9E8694E5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546-1D9B-4EBF-AB5D-895CE90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6B4-463A-4C90-91B3-32FB5AB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766-1B8E-4071-8AE0-E10BB4B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84B-D8D0-439D-9296-4FBDD58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6B748-3C68-4FCC-843E-854091399E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